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2.wmf" ContentType="image/x-wmf"/>
  <Override PartName="/ppt/media/image14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1.jpeg" ContentType="image/jpe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1E34-2EE3-46A2-BF55-6234F92B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33A3-9470-4CFF-A9B7-E9143095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900-427B-4496-9808-ED90011B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F77-F579-48CA-B983-3B4D3AF9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0D2-5B31-4AE7-B580-A47E3F0D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71F-C621-4F76-A7DB-622DE498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19B3-44E3-499F-8D0B-4C8B2AC7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453-83CD-44D4-B5CE-3CA1569D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207-2868-4477-995A-81CA162D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B831-E516-44E2-A39D-E223D88F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2724-61A3-4DD3-B923-10C77D4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0E3-B263-46B8-B093-21094C8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9150-08F7-4CA8-8033-5C24CF6F0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696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2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lex Zeros of a Quadratic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33720" y="1447920"/>
            <a:ext cx="472428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BJECTIVE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78040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076560" cy="65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7908840" cy="416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8915400" cy="1338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80880" y="3657600"/>
            <a:ext cx="2616480" cy="267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975280" y="2819520"/>
            <a:ext cx="26971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2438280" cy="66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915400" cy="2621160"/>
          </a:xfrm>
          <a:prstGeom prst="rect">
            <a:avLst/>
          </a:prstGeom>
          <a:ln w="2844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743200" cy="587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7907040" cy="39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1447920"/>
            <a:ext cx="8991720" cy="1260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304920" y="2879640"/>
            <a:ext cx="3370320" cy="3749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4876920" y="2819520"/>
            <a:ext cx="265248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281916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543040" cy="54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7864560" cy="765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93600" y="2514600"/>
            <a:ext cx="9050400" cy="201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rcRect l="0" t="45954" r="0" b="0"/>
          <a:stretch/>
        </p:blipFill>
        <p:spPr>
          <a:xfrm>
            <a:off x="0" y="5105520"/>
            <a:ext cx="9144000" cy="1523880"/>
          </a:xfrm>
          <a:prstGeom prst="rect">
            <a:avLst/>
          </a:prstGeom>
          <a:ln w="936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58:52Z</dcterms:created>
  <dc:creator>Harry S. Mills</dc:creator>
  <dc:description/>
  <dc:language>en-US</dc:language>
  <cp:lastModifiedBy>Harry S. Mills</cp:lastModifiedBy>
  <dcterms:modified xsi:type="dcterms:W3CDTF">2007-12-23T22:03:55Z</dcterms:modified>
  <cp:revision>7</cp:revision>
  <dc:subject/>
  <dc:title>Slide 1</dc:title>
</cp:coreProperties>
</file>